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E0E-AC9E-4823-8EF4-39DA0A29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15E-77B0-48DA-9282-00D2870E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07A-7CD7-4F5E-A179-9C4493B1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3B8-D77B-43B5-9E22-D11775B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5DF-15E9-4E48-8E13-77B1AF0C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D66-A448-4F9E-88F3-73B18584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9D8-21B6-4049-88C9-789D9E2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D7E-42C0-45D6-A236-585117E6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17-4FC7-4F4D-8F91-39CBD54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DAB-32AC-4D65-ADC3-D608246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1DD-17A7-4B69-A339-7659709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618-92A5-41E7-AAE3-52406AA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45A-9343-4B83-88E4-725ECEA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333-DB3C-42A7-868B-28AFD417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0A3-BE6B-4CC1-8A7E-1ACF0C04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76320" y="4191120"/>
            <a:ext cx="167616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867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42900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ombre es Fariha. Yo vivo New York. Yo tengo catorce años. Yo tengo el hermano. Yo soy muy bi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943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! Yo estoy también bien! Cómo están sus vecinos? Cuándo quieres comer en el restaurant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62485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! Gracias! Y tu? Mi hermano está bien. Pero, el está molesto. Mi mamá está enferma. Ella está en el hosp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escuela es aburrida, pero, mis profesores son bue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2514600"/>
            <a:ext cx="4800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Cómo estás? Cómo está tu hermano? Y tu mamá? Cómo es la escuela?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495680"/>
            <a:ext cx="6019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s vecinos están buenos. Si, yo quiero comer en el restaurante, pero puede venir mi hermana. Ella es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que venir mañana. Cuántas personas están llegando?  Dónde están tu y sus hermanos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Photo on 2011-10-21 at 13.39 #2.jpg"/>
          <p:cNvPicPr/>
          <p:nvPr/>
        </p:nvPicPr>
        <p:blipFill>
          <a:blip r:embed="rId10"/>
          <a:stretch/>
        </p:blipFill>
        <p:spPr>
          <a:xfrm>
            <a:off x="2041560" y="4572000"/>
            <a:ext cx="536400" cy="78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Photo on 2011-10-21 at 13.39 #2.jpg"/>
          <p:cNvPicPr/>
          <p:nvPr/>
        </p:nvPicPr>
        <p:blipFill>
          <a:blip r:embed="rId11"/>
          <a:stretch/>
        </p:blipFill>
        <p:spPr>
          <a:xfrm>
            <a:off x="2041560" y="5943600"/>
            <a:ext cx="536400" cy="781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7"/>
          <p:cNvSpPr/>
          <p:nvPr/>
        </p:nvSpPr>
        <p:spPr>
          <a:xfrm>
            <a:off x="2895480" y="5257800"/>
            <a:ext cx="5791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ólo me. Nosotros somos en casa ahora. Tu eres bonita. Tienes mi pein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uándo tu regreses mi peine? Cómo puedo buscar?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819520" y="5943600"/>
            <a:ext cx="57909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!!! Tengo tu peine. Yo es estudio. Tu buscas bonito. ADIO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4:12Z</dcterms:modified>
  <cp:revision>118</cp:revision>
  <dc:subject/>
  <dc:title>Profile</dc:title>
</cp:coreProperties>
</file>